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24.jpeg" ContentType="image/jpeg"/>
  <Override PartName="/ppt/media/image15.png" ContentType="image/png"/>
  <Override PartName="/ppt/media/image12.png" ContentType="image/png"/>
  <Override PartName="/ppt/media/image13.png" ContentType="image/png"/>
  <Override PartName="/ppt/media/image34.wmf" ContentType="image/x-wmf"/>
  <Override PartName="/ppt/media/image35.png" ContentType="image/png"/>
  <Override PartName="/ppt/media/image5.jpeg" ContentType="image/jpeg"/>
  <Override PartName="/ppt/media/image8.png" ContentType="image/png"/>
  <Override PartName="/ppt/media/image38.png" ContentType="image/png"/>
  <Override PartName="/ppt/media/image33.jpeg" ContentType="image/jpeg"/>
  <Override PartName="/ppt/media/image37.wmf" ContentType="image/x-wmf"/>
  <Override PartName="/ppt/media/image41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7.png" ContentType="image/png"/>
  <Override PartName="/ppt/media/image44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26.jpeg" ContentType="image/jpeg"/>
  <Override PartName="/ppt/media/image42.png" ContentType="image/png"/>
  <Override PartName="/ppt/media/image40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F4DB-6F22-4F6F-9A39-1616A21E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162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523520" y="4253400"/>
            <a:ext cx="7162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290-CFB0-4B97-A63F-2F165643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9408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523520" y="425340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94080" y="425340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14E-2335-41C7-93BD-AD9E4A02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45240" y="190512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67320" y="190512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523520" y="425340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45240" y="425340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67320" y="425340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311-7B81-4D16-BA82-A7A54453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E6CFD-926F-4B85-AF6D-6E285FEC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523520" y="190512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143E3-7A0F-4864-8D8D-B557EAF5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DA465-A745-4354-9EDF-8D2D43B9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95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4080" y="1905120"/>
            <a:ext cx="3495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214CC-73F4-41BA-960C-767D7B93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52BAD-A08B-4281-BD78-61DB6CD5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C5C7A-C89F-4650-8730-08F8BCF1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94080" y="1905120"/>
            <a:ext cx="3495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23520" y="425340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ED6F6-CA86-4705-8BCE-7D1307BE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523520" y="190512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C0A-6A41-4FE0-B165-3525FDAA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95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9408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94080" y="425340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07EE4-E93C-4269-B877-9FB92232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408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523520" y="4253400"/>
            <a:ext cx="7162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719E8-F2DB-448A-BAE0-7D7C6DF6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162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523520" y="4253400"/>
            <a:ext cx="7162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4EC35-7EBE-464A-ABCF-05AD9600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9408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523520" y="425340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94080" y="425340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65075-3D9D-43A2-94D8-9CE08637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945240" y="190512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67320" y="190512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523520" y="425340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945240" y="425340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67320" y="425340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5FC0C-0F3F-4F9A-9DD0-681C9D1D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9EF-3BAD-45B1-B614-53B15524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95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4080" y="1905120"/>
            <a:ext cx="3495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968-9C44-454B-88AE-68F2636C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737-1689-485B-9838-3C3C1899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6BB-E826-443B-868B-B5AFA2BB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4080" y="1905120"/>
            <a:ext cx="3495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3520" y="425340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5AB-35F7-42CF-94BD-893078C2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95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408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4080" y="425340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9CD-1661-48F0-A2C6-8D85E849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408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253400"/>
            <a:ext cx="7162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ED7-AC54-4393-B7DE-D70868DA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972"/>
                </a:gs>
                <a:gs pos="100000">
                  <a:srgbClr val="00295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972"/>
                </a:gs>
                <a:gs pos="100000">
                  <a:srgbClr val="00295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523520" y="190512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E523-A027-401C-B230-9A9EBA926C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219320"/>
            <a:ext cx="9144000" cy="152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456a8f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1371600"/>
            <a:ext cx="9144000" cy="152280"/>
          </a:xfrm>
          <a:prstGeom prst="rect">
            <a:avLst/>
          </a:pr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352680" y="0"/>
            <a:ext cx="5791320" cy="1219320"/>
          </a:xfrm>
          <a:prstGeom prst="rect">
            <a:avLst/>
          </a:prstGeom>
          <a:gradFill rotWithShape="0">
            <a:gsLst>
              <a:gs pos="0">
                <a:srgbClr val="00162d"/>
              </a:gs>
              <a:gs pos="100000">
                <a:srgbClr val="00397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2d5c8a"/>
              </a:gs>
              <a:gs pos="100000">
                <a:srgbClr val="00397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33520" y="1752480"/>
            <a:ext cx="609480" cy="609840"/>
          </a:xfrm>
          <a:prstGeom prst="rect">
            <a:avLst/>
          </a:prstGeom>
          <a:gradFill rotWithShape="0">
            <a:gsLst>
              <a:gs pos="0">
                <a:srgbClr val="42688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33520" y="2895480"/>
            <a:ext cx="609480" cy="609840"/>
          </a:xfrm>
          <a:prstGeom prst="rect">
            <a:avLst/>
          </a:prstGeom>
          <a:gradFill rotWithShape="0">
            <a:gsLst>
              <a:gs pos="0">
                <a:srgbClr val="42688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533520" y="4038480"/>
            <a:ext cx="609480" cy="609840"/>
          </a:xfrm>
          <a:prstGeom prst="rect">
            <a:avLst/>
          </a:prstGeom>
          <a:gradFill rotWithShape="0">
            <a:gsLst>
              <a:gs pos="0">
                <a:srgbClr val="42688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533520" y="5105520"/>
            <a:ext cx="609480" cy="609480"/>
          </a:xfrm>
          <a:prstGeom prst="rect">
            <a:avLst/>
          </a:prstGeom>
          <a:gradFill rotWithShape="0">
            <a:gsLst>
              <a:gs pos="0">
                <a:srgbClr val="42688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6027" h="2296">
                <a:moveTo>
                  <a:pt x="6027" y="2296"/>
                </a:moveTo>
                <a:lnTo>
                  <a:pt x="0" y="2296"/>
                </a:lnTo>
                <a:lnTo>
                  <a:pt x="0" y="0"/>
                </a:lnTo>
                <a:lnTo>
                  <a:pt x="6027" y="0"/>
                </a:lnTo>
                <a:lnTo>
                  <a:pt x="6027" y="2296"/>
                </a:lnTo>
                <a:lnTo>
                  <a:pt x="6027" y="2296"/>
                </a:lnTo>
                <a:close/>
              </a:path>
            </a:pathLst>
          </a:cu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18F6-AC06-49AE-BA3A-2A92E6EB9A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911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imSun"/>
                <a:ea typeface="SimSun"/>
              </a:rPr>
              <a:t>www.bysoftinc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-974" r="28364" b="3927"/>
          <a:stretch/>
        </p:blipFill>
        <p:spPr>
          <a:xfrm>
            <a:off x="0" y="0"/>
            <a:ext cx="4343400" cy="205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67080" y="0"/>
            <a:ext cx="4876920" cy="20574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057400"/>
            <a:ext cx="9144000" cy="152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42688d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209680"/>
            <a:ext cx="9144000" cy="152640"/>
          </a:xfrm>
          <a:prstGeom prst="rect">
            <a:avLst/>
          </a:pr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bysoftinc.com/images/byvision/well_dis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981080" y="5105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tegrated Application Data Visu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2514600" cy="1739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57600" y="2971800"/>
            <a:ext cx="2286000" cy="1693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095880" y="2971800"/>
            <a:ext cx="2108160" cy="181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06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Vision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-D Visualiz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52480" y="1763640"/>
            <a:ext cx="5029200" cy="40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Render Cap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D track ball rend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n, zoom in, zoom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icing volu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D data analy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ar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color bar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Attribute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790960" y="2209680"/>
            <a:ext cx="315108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ultaneous solid and transparency 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surface, contour, ligh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ve Picking Cap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action between surface and 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175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180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06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Vision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-D Visualiz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857680" y="2158920"/>
            <a:ext cx="4152600" cy="307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2895480" y="2057400"/>
          <a:ext cx="251460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057400"/>
                    <a:ext cx="251460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638680" y="2057400"/>
            <a:ext cx="2514600" cy="1852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638680" y="4191120"/>
            <a:ext cx="2586240" cy="21715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graphicFrame>
        <p:nvGraphicFramePr>
          <p:cNvPr id="190" name=""/>
          <p:cNvGraphicFramePr/>
          <p:nvPr/>
        </p:nvGraphicFramePr>
        <p:xfrm>
          <a:off x="2895480" y="4191120"/>
          <a:ext cx="2498760" cy="21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4191120"/>
                    <a:ext cx="249876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193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06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Vision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ous Data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666880" y="3746520"/>
            <a:ext cx="2667240" cy="2573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895480" y="1828800"/>
            <a:ext cx="1981440" cy="1463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638680" y="2590920"/>
            <a:ext cx="2590920" cy="215568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202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06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Vision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h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438280" y="4648320"/>
            <a:ext cx="2286000" cy="1393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486400" y="464832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895480" y="1676520"/>
            <a:ext cx="3733920" cy="266364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211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06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Vision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stogram Multi-Volum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95480" y="1744560"/>
            <a:ext cx="2455920" cy="259884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218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82760" y="0"/>
            <a:ext cx="706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Vision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Gall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334120" y="1731960"/>
            <a:ext cx="3200400" cy="2763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 rot="21480600">
            <a:off x="5410080" y="4419720"/>
            <a:ext cx="2590920" cy="191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2895480" y="4335480"/>
          <a:ext cx="2590920" cy="2217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4335480"/>
                    <a:ext cx="259092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1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1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600200" y="19051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ltiple Horizons in Different Mod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43440" indent="-365400">
              <a:lnSpc>
                <a:spcPct val="80000"/>
              </a:lnSpc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to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43440" indent="-365400">
              <a:lnSpc>
                <a:spcPct val="80000"/>
              </a:lnSpc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rid Mes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43440" indent="-365400">
              <a:lnSpc>
                <a:spcPct val="80000"/>
              </a:lnSpc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iang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defined Data Hand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n-uniform mesh sup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ut, copy, and pas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s Edi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and Continuous Color Sup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1905120"/>
            <a:ext cx="3962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al-time Mathematic Computatio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upport multiple languag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SimSun"/>
              </a:rPr>
              <a:t>Vector meta file saving capabil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SimSun"/>
              </a:rPr>
              <a:t>Linear and log scal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SimSun"/>
              </a:rPr>
              <a:t>Surface format convers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SimSun"/>
              </a:rPr>
              <a:t>Geography map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SimSun"/>
              </a:rPr>
              <a:t>Image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230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Horizon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-D Visualiz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286000" y="4038480"/>
            <a:ext cx="2971800" cy="20448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486400" y="2362320"/>
            <a:ext cx="2990880" cy="1984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905120" y="2590920"/>
            <a:ext cx="32004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-time formu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t Brush ed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239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Horizon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-D Visualiz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5880" y="1905120"/>
            <a:ext cx="2514600" cy="1712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019920" y="3859200"/>
            <a:ext cx="2657520" cy="2427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514600" y="2527200"/>
            <a:ext cx="3124080" cy="259740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248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Horizn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Galler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904760" y="1980720"/>
            <a:ext cx="31827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pled and/or XY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tic or dynamic dat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ltiple curves and multiple axes vie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rizontal or vertical layo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rea picking, editing, interpolation, smooth, analysis, and curve fit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1905120"/>
            <a:ext cx="3657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how, add, delete, and modify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arkers and annotation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arious backgroun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SimSun"/>
              </a:rPr>
              <a:t>Vector meta file saving capabil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race displa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ensity displa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256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Graph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ve Data Analysi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3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bout BYSoft Inc.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knowledge in Geosci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essional software development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que approach to integrating data visualization, analysis, and interpre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en track record with major oil and service compan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l-designed for multiple language sup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s well-received in the oil &amp; gas indu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able products and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106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943600" y="2286000"/>
            <a:ext cx="266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ampled and Ran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9556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e9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3048120" cy="2052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638680" y="4114800"/>
            <a:ext cx="2853000" cy="2062080"/>
          </a:xfrm>
          <a:prstGeom prst="rect">
            <a:avLst/>
          </a:prstGeom>
          <a:ln w="22320">
            <a:solidFill>
              <a:srgbClr val="003366"/>
            </a:solidFill>
            <a:miter/>
          </a:ln>
        </p:spPr>
      </p:pic>
      <p:sp>
        <p:nvSpPr>
          <p:cNvPr id="265" name=""/>
          <p:cNvSpPr/>
          <p:nvPr/>
        </p:nvSpPr>
        <p:spPr>
          <a:xfrm>
            <a:off x="2133720" y="48769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s multiple curves with different starting p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267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Graph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-D Data Analysi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552720" y="2285640"/>
            <a:ext cx="16002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ves in Density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4038840" cy="2747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876920" y="4038480"/>
            <a:ext cx="3489120" cy="249876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276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Graph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-D Data Analysi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981080" y="1599840"/>
            <a:ext cx="655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GY 2D, 3D, shot/CDP data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sity and wiggle or bo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or multiple ensem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 map edit, statistics info,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, cut and paste, drag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er information view and 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, horizon/fault picking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language annotation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web servic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ctor Image and prin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283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Seis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ismic Data Viewe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590560" y="1828440"/>
            <a:ext cx="1989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ggle and Dens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438280" y="3962520"/>
          <a:ext cx="2898720" cy="22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962520"/>
                    <a:ext cx="2898720" cy="22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1828800" y="15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5334120" y="1793880"/>
            <a:ext cx="3181320" cy="20210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791320" y="4343400"/>
            <a:ext cx="200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Seismic data as background with lo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295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Seis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ismic Data Viewe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Log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LAS file format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track, linear/log scale, N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 Setting save and im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image format and print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g, zoom and curve set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ve editing, Zone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D and 2D data set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, Pattern, image and core image dis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web service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tional language annotation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Time math operation/Clipboard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303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405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Log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905120" y="22856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ear and Logscale with pattern fi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981080" y="3429000"/>
            <a:ext cx="2800440" cy="29383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56272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tho info with pattern fi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313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1120" y="152280"/>
            <a:ext cx="698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Log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428640" y="1980720"/>
            <a:ext cx="2895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lay 2D Data, cross plo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352680" y="2819520"/>
            <a:ext cx="3353040" cy="300348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321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2133720" y="1828440"/>
            <a:ext cx="2984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rcentage or fraction mo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cision defini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urth value in the dia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Add, delete, and edit point propert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Import and export ASCII data 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1981080"/>
            <a:ext cx="3429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Create and edit multiple symbols and color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Show title and legen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Edit axis and graph property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SimSun"/>
              </a:rPr>
              <a:t>Save images into a vector meta fil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328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3808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Triangle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Component View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2590560" y="281916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bution 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362320" y="4010040"/>
            <a:ext cx="3200400" cy="2367000"/>
          </a:xfrm>
          <a:prstGeom prst="rect">
            <a:avLst/>
          </a:prstGeom>
          <a:ln w="19080">
            <a:solidFill>
              <a:srgbClr val="f0b976"/>
            </a:solidFill>
            <a:miter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5334120" y="1828800"/>
            <a:ext cx="3200400" cy="2341440"/>
          </a:xfrm>
          <a:prstGeom prst="rect">
            <a:avLst/>
          </a:prstGeom>
          <a:ln w="19080">
            <a:solidFill>
              <a:srgbClr val="f0b976"/>
            </a:solidFill>
            <a:miter/>
          </a:ln>
        </p:spPr>
      </p:pic>
      <p:sp>
        <p:nvSpPr>
          <p:cNvPr id="336" name=""/>
          <p:cNvSpPr/>
          <p:nvPr/>
        </p:nvSpPr>
        <p:spPr>
          <a:xfrm>
            <a:off x="5791320" y="48006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ve pi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338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3808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Triangle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Component View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1676160" y="16761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cc66"/>
                </a:solidFill>
                <a:latin typeface="Arial"/>
              </a:rPr>
              <a:t>Email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RichardXu@bysoftinc.com 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info@bysoftinc.co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cc66"/>
                </a:solidFill>
                <a:latin typeface="Arial"/>
              </a:rPr>
              <a:t>Phone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001) 713-776-1111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cc66"/>
                </a:solidFill>
                <a:latin typeface="Arial"/>
              </a:rPr>
              <a:t>Web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www.bysoftinc.com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cc66"/>
                </a:solidFill>
                <a:latin typeface="Arial"/>
              </a:rPr>
              <a:t>Mailing Addres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.O. Box 1305 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tafford, TX 77497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cc66"/>
                </a:solidFill>
                <a:latin typeface="Arial"/>
              </a:rPr>
              <a:t>Office Location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5855 Sovereign, Suite 100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ouston, Texas, 77036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345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3808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ontact Information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 or Concerns?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828800" y="159984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ize and analyze different data sets to achieve an integrated data interpretation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 engineers to concentrate on what they do best: computation instead of visu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dge the gap between engineers and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low cost custom solutions through component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2920" y="1828800"/>
            <a:ext cx="1676160" cy="3960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1522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How BYSoft Can Help Y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114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ome  of Our Clien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47719" b="0"/>
          <a:stretch/>
        </p:blipFill>
        <p:spPr>
          <a:xfrm>
            <a:off x="5486400" y="3276720"/>
            <a:ext cx="1673280" cy="846000"/>
          </a:xfrm>
          <a:prstGeom prst="rect">
            <a:avLst/>
          </a:prstGeom>
          <a:ln w="25560">
            <a:solidFill>
              <a:srgbClr val="003366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28800" y="3429000"/>
            <a:ext cx="2590920" cy="863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334120" y="2438280"/>
            <a:ext cx="3292200" cy="525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286000" y="2590920"/>
            <a:ext cx="2590920" cy="63000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743200" y="1828800"/>
            <a:ext cx="2905200" cy="361800"/>
          </a:xfrm>
          <a:prstGeom prst="rect">
            <a:avLst/>
          </a:prstGeom>
          <a:ln w="25560">
            <a:solidFill>
              <a:srgbClr val="003366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971800" y="5638680"/>
            <a:ext cx="2971800" cy="279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781680" y="4876920"/>
            <a:ext cx="990720" cy="10951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26" name="" descr="Petris"/>
          <p:cNvPicPr/>
          <p:nvPr/>
        </p:nvPicPr>
        <p:blipFill>
          <a:blip r:embed="rId8"/>
          <a:stretch/>
        </p:blipFill>
        <p:spPr>
          <a:xfrm>
            <a:off x="3733920" y="4572000"/>
            <a:ext cx="1566720" cy="69516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128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799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799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299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799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299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799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86600" y="4876920"/>
            <a:ext cx="1781280" cy="1790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92504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YSoft’s Achievements</a:t>
            </a:r>
            <a:br>
              <a:rPr sz="40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 Productivity &amp; Reduce Cos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1600200"/>
            <a:ext cx="6933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Auto Report system to reduce a week long report time to 1 day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aker Hugh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alliburt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gineers to simulate well logging response for various tools and environments to create better tools make a better surve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ed Shell researchers quickly set up complicated 3D models to simulate well respon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136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9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Data Visualization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5120" y="1752120"/>
            <a:ext cx="6834240" cy="47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Soft’s technology empowers you to perfor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software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quality control and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 reporting and report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services to remotely view geoscienc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D, 2D, 3D, and multi-D data visualization for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-referencing related but differing data views to gain better insight into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143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3263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Soft Products</a:t>
            </a:r>
            <a:br>
              <a:rPr sz="3600"/>
            </a:b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ization, Analysis, Editing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510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BYGraph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Chart, function viewer/Ed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BYHoriz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Horizon viewer/Ed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BYVision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multi-D data visu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BYTriangl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ernary vie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BYSei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Seismic data vie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BYLog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Well log data viewer/ed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BYMap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GIS horizon/fault vie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BYColorEdi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lor map ed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477120" y="1828800"/>
            <a:ext cx="2209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Toolk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ddddd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Arial"/>
              </a:rPr>
              <a:t>Math Parser: </a:t>
            </a:r>
            <a:r>
              <a:rPr b="0" i="1" lang="en-US" sz="1600" spc="-1" strike="noStrike">
                <a:solidFill>
                  <a:srgbClr val="dddddd"/>
                </a:solidFill>
                <a:latin typeface="Arial"/>
              </a:rPr>
              <a:t>Real time mathematic </a:t>
            </a:r>
            <a:r>
              <a:rPr b="0" i="1" lang="en-US" sz="1600" spc="-1" strike="noStrike">
                <a:solidFill>
                  <a:srgbClr val="dddddd"/>
                </a:solidFill>
                <a:latin typeface="Arial"/>
                <a:ea typeface="SimSun"/>
              </a:rPr>
              <a:t>computation</a:t>
            </a:r>
            <a:r>
              <a:rPr b="0" lang="en-US" sz="1600" spc="-1" strike="noStrike">
                <a:solidFill>
                  <a:srgbClr val="dddddd"/>
                </a:solidFill>
                <a:latin typeface="Arial"/>
                <a:ea typeface="SimSu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ddddd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Arial"/>
              </a:rPr>
              <a:t>Horizon and volume reader/wri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ddddd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Arial"/>
              </a:rPr>
              <a:t>SEGY reader/wri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ddddd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Arial"/>
              </a:rPr>
              <a:t>Report Gene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ddddd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Arial"/>
              </a:rPr>
              <a:t>Data Converter and Analyz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4876920"/>
            <a:ext cx="6934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5638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GeoVis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ed Visualization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153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Integrated Visualization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33360" y="1752120"/>
            <a:ext cx="6035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an be directly moved from BYSeis or BYLog into BYGraph for analysis and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D models can be connected with a 2D cross-section and a 1D graph for multiple data vie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ve picking and backtracking to original data view can provide a robust neural network pattern recognition tann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time math engine gives an edge on data analysis and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160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50800" y="-360"/>
            <a:ext cx="82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dvantage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GL direct hardware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u-driven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ctor meta file and print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 format configuration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jpeg, png, bmp, emf, tiff, gif…) support for auto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development language support (C#, C++, FORTRAN, VB, script…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tional Language notation (unicode)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web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, 2000 and XP platform compat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 compatibility through Win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167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9T21:22:44Z</dcterms:created>
  <dc:creator>Diane Cunningham</dc:creator>
  <dc:description/>
  <dc:language>en-US</dc:language>
  <cp:lastModifiedBy>RichardXu</cp:lastModifiedBy>
  <dcterms:modified xsi:type="dcterms:W3CDTF">2005-07-02T21:49:23Z</dcterms:modified>
  <cp:revision>219</cp:revision>
  <dc:subject/>
  <dc:title>Slide 1</dc:title>
</cp:coreProperties>
</file>